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8F1-FE16-41FB-B879-3908B1E3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005-4E1B-43CC-97CC-18F5E274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01C-8EF0-471C-99F1-27911787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8F6-E8C3-4998-9CCA-DF4DD99E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15D-53B4-44A7-A5D9-B083CD95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D9E-0866-4D61-960B-9B3C2306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F49-EA0A-48D7-B9B2-888DCF5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DFD-5B61-4E26-9BB0-7239FEB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2B0-3038-4415-98F2-41165FE8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56C-8363-4D38-80DD-9416FF4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AF2-8B4A-4047-BA8B-791022B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362-05B7-40C5-96BE-8C694D4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FB9-F865-49A1-99BB-128563DA7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292040" cy="1901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4" descr=""/>
          <p:cNvPicPr/>
          <p:nvPr/>
        </p:nvPicPr>
        <p:blipFill>
          <a:blip r:embed="rId2"/>
          <a:stretch/>
        </p:blipFill>
        <p:spPr>
          <a:xfrm>
            <a:off x="3962520" y="2803680"/>
            <a:ext cx="1292040" cy="1901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ую цифру надо поставить вместо звездочки, чтобы дробь была правиль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3"/>
          <a:stretch/>
        </p:blipFill>
        <p:spPr>
          <a:xfrm>
            <a:off x="6480000" y="2803680"/>
            <a:ext cx="12924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201680" cy="1908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34" descr=""/>
          <p:cNvPicPr/>
          <p:nvPr/>
        </p:nvPicPr>
        <p:blipFill>
          <a:blip r:embed="rId2"/>
          <a:stretch/>
        </p:blipFill>
        <p:spPr>
          <a:xfrm>
            <a:off x="3633840" y="2968560"/>
            <a:ext cx="1206360" cy="1736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ие натуральные числа можно поставить вместо буквы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, чтобы неравенство было вер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4" descr=""/>
          <p:cNvPicPr/>
          <p:nvPr/>
        </p:nvPicPr>
        <p:blipFill>
          <a:blip r:embed="rId3"/>
          <a:stretch/>
        </p:blipFill>
        <p:spPr>
          <a:xfrm>
            <a:off x="5626080" y="2803680"/>
            <a:ext cx="1208160" cy="1901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933640" y="344016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597"/>
                </a:solidFill>
                <a:latin typeface="a_AlbionicTtlRg&amp;Bt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070600" y="344016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597"/>
                </a:solidFill>
                <a:latin typeface="a_AlbionicTtlRg&amp;Bt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798480" y="1096920"/>
            <a:ext cx="77122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633680" cy="9205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14624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635120" cy="9334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33" descr=""/>
          <p:cNvPicPr/>
          <p:nvPr/>
        </p:nvPicPr>
        <p:blipFill>
          <a:blip r:embed="rId5"/>
          <a:stretch/>
        </p:blipFill>
        <p:spPr>
          <a:xfrm>
            <a:off x="3486240" y="3932280"/>
            <a:ext cx="13906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4" descr=""/>
          <p:cNvPicPr/>
          <p:nvPr/>
        </p:nvPicPr>
        <p:blipFill>
          <a:blip r:embed="rId6"/>
          <a:stretch/>
        </p:blipFill>
        <p:spPr>
          <a:xfrm>
            <a:off x="3486240" y="248112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35" descr=""/>
          <p:cNvPicPr/>
          <p:nvPr/>
        </p:nvPicPr>
        <p:blipFill>
          <a:blip r:embed="rId7"/>
          <a:stretch/>
        </p:blipFill>
        <p:spPr>
          <a:xfrm>
            <a:off x="6199200" y="963720"/>
            <a:ext cx="1633680" cy="92556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1" descr=""/>
          <p:cNvPicPr/>
          <p:nvPr/>
        </p:nvPicPr>
        <p:blipFill>
          <a:blip r:embed="rId8"/>
          <a:stretch/>
        </p:blipFill>
        <p:spPr>
          <a:xfrm>
            <a:off x="6199200" y="2481120"/>
            <a:ext cx="113976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9" descr=""/>
          <p:cNvPicPr/>
          <p:nvPr/>
        </p:nvPicPr>
        <p:blipFill>
          <a:blip r:embed="rId9"/>
          <a:stretch/>
        </p:blipFill>
        <p:spPr>
          <a:xfrm>
            <a:off x="6199200" y="3919680"/>
            <a:ext cx="1633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2:44Z</dcterms:modified>
  <cp:revision>151</cp:revision>
  <dc:subject/>
  <dc:title>Презентация PowerPoint</dc:title>
</cp:coreProperties>
</file>